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1EF-C529-46E1-8008-F7367042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6FB-F137-4791-A62C-A17307AE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120-D566-4C5C-B706-18D9ADA8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C0C-0D31-4116-9E2B-03E73128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76A-5D03-40CF-A0A0-204802FB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15A-2A7F-461C-AC08-56EE9259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B02-8249-4ADE-983D-ED716D62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645-AE77-48A9-9A93-A167D13D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ABC-37EE-4C7C-BD10-11931848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A56-4C5B-4F74-91CE-1C100ECF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557-67EB-4F25-A746-B6988C4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5B5-BB56-445F-BA5F-26B09177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31E9-D5FC-437E-A63C-291D538E5C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sson24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 E-mail to Grandpa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860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冀教版 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3520" y="38088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 in the blanks with the correct forms of the words or phrases in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f you spend too much time __________ online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parents will be ang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I don't know how to __________ a new compu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help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People began to ________ for the lost k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When I want to relax, I turn on the radio and lis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my favourite radio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L Ming wants to ____________ and searc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for more information about E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90720" y="1447920"/>
            <a:ext cx="69339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rch    chat    program    go online   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562720" y="2057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267080" y="29718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505320" y="3809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4419720" y="4648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gram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65760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116080" y="4876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etell the stor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"/>
          <p:cNvSpPr/>
          <p:nvPr/>
        </p:nvSpPr>
        <p:spPr>
          <a:xfrm>
            <a:off x="228600" y="533520"/>
            <a:ext cx="8305920" cy="60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Wang Mei has a __ __. She is  writing__ __ on  it.On the new laptop,She can use __ __ __to talk with others. It even has __. She can see __ __ as they talk . She can do the research on the Internet, She  types __ __ __into the __ __. It’s easy to find__ __ __ __.She likes reading. She  knows how to __ __online. She will __some to __ __. With the Internet She can  find her way around the city online. She  uses __ __ __on the Internet. It can give her __to __ she wants to g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ork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76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ollowing are some common ways to communicate with your friends. Check which ones you use most often and explain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57200" y="3121200"/>
            <a:ext cx="8305920" cy="2531160"/>
            <a:chOff x="457200" y="3121200"/>
            <a:chExt cx="8305920" cy="2531160"/>
          </a:xfrm>
        </p:grpSpPr>
        <p:sp>
          <p:nvSpPr>
            <p:cNvPr id="87" name="矩形 3"/>
            <p:cNvSpPr/>
            <p:nvPr/>
          </p:nvSpPr>
          <p:spPr>
            <a:xfrm>
              <a:off x="457200" y="3121200"/>
              <a:ext cx="8305920" cy="253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write e-mails                 write lett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make a phone call        visit his/ her hou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chat online                    other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I like to communicate with my friends by__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ecause________________________________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533160" y="327348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5"/>
            <p:cNvSpPr/>
            <p:nvPr/>
          </p:nvSpPr>
          <p:spPr>
            <a:xfrm>
              <a:off x="4495680" y="327348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6"/>
            <p:cNvSpPr/>
            <p:nvPr/>
          </p:nvSpPr>
          <p:spPr>
            <a:xfrm>
              <a:off x="533160" y="373104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7"/>
            <p:cNvSpPr/>
            <p:nvPr/>
          </p:nvSpPr>
          <p:spPr>
            <a:xfrm>
              <a:off x="533160" y="41886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8"/>
            <p:cNvSpPr/>
            <p:nvPr/>
          </p:nvSpPr>
          <p:spPr>
            <a:xfrm>
              <a:off x="4495680" y="373104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>
              <a:off x="4495680" y="41886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j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6868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 your classmates often do on the Internet? Do a survey of your members in your group and write down the top two questi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19520" y="1459080"/>
            <a:ext cx="88448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Use the Internet properly  and carefu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Don’t spend too much time on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985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Remember how to use the Internet in Engl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Find more stories about helping others by using the Interne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5200" y="327672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you do for work, for study, for fun on the Internet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914400" y="14479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ink about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565920" y="914400"/>
            <a:ext cx="8093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with friends and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t online with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b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with stra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d, receive or post photos with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 online ga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wnload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p on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04920" y="1523880"/>
            <a:ext cx="8534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lk with your partn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 you like to do on the Intern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ce6f0cdb75aaecea25cef0ec8f7c015"/>
          <p:cNvPicPr/>
          <p:nvPr/>
        </p:nvPicPr>
        <p:blipFill>
          <a:blip r:embed="rId1"/>
          <a:srcRect l="0" t="0" r="0" b="38929"/>
          <a:stretch/>
        </p:blipFill>
        <p:spPr>
          <a:xfrm>
            <a:off x="304920" y="1022400"/>
            <a:ext cx="3084480" cy="204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 and write “T” or “F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WangMei is writing an e-mail on her new computer.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angMei wants to set up a time to go online together with Danny.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This week at school, WangMei wrote a report about Christmas.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WangMei will download some e-books for her grandpa. 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3965760" y="1676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4422960" y="4952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556680" y="2819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861160" y="38862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952880" y="3352680"/>
            <a:ext cx="1295640" cy="18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5105520" y="1752480"/>
            <a:ext cx="3581280" cy="1295280"/>
            <a:chOff x="5105520" y="1752480"/>
            <a:chExt cx="3581280" cy="1295280"/>
          </a:xfrm>
        </p:grpSpPr>
        <p:grpSp>
          <p:nvGrpSpPr>
            <p:cNvPr id="56" name="Group 10"/>
            <p:cNvGrpSpPr/>
            <p:nvPr/>
          </p:nvGrpSpPr>
          <p:grpSpPr>
            <a:xfrm>
              <a:off x="5105520" y="1752480"/>
              <a:ext cx="3581280" cy="762480"/>
              <a:chOff x="5105520" y="1752480"/>
              <a:chExt cx="3581280" cy="762480"/>
            </a:xfrm>
          </p:grpSpPr>
          <p:sp>
            <p:nvSpPr>
              <p:cNvPr id="57" name="Oval 11"/>
              <p:cNvSpPr/>
              <p:nvPr/>
            </p:nvSpPr>
            <p:spPr>
              <a:xfrm flipH="1">
                <a:off x="5105520" y="1752480"/>
                <a:ext cx="3581280" cy="762480"/>
              </a:xfrm>
              <a:prstGeom prst="ellipse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2"/>
              <p:cNvSpPr/>
              <p:nvPr/>
            </p:nvSpPr>
            <p:spPr>
              <a:xfrm>
                <a:off x="5715000" y="1752480"/>
                <a:ext cx="262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her grandp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Line 13"/>
            <p:cNvSpPr/>
            <p:nvPr/>
          </p:nvSpPr>
          <p:spPr>
            <a:xfrm flipV="1">
              <a:off x="5638680" y="2438640"/>
              <a:ext cx="457200" cy="609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343400" y="2743200"/>
            <a:ext cx="3581280" cy="1295280"/>
            <a:chOff x="4343400" y="2743200"/>
            <a:chExt cx="3581280" cy="1295280"/>
          </a:xfrm>
        </p:grpSpPr>
        <p:grpSp>
          <p:nvGrpSpPr>
            <p:cNvPr id="61" name="Group 15"/>
            <p:cNvGrpSpPr/>
            <p:nvPr/>
          </p:nvGrpSpPr>
          <p:grpSpPr>
            <a:xfrm>
              <a:off x="4343400" y="2743200"/>
              <a:ext cx="3581280" cy="762480"/>
              <a:chOff x="4343400" y="2743200"/>
              <a:chExt cx="3581280" cy="762480"/>
            </a:xfrm>
          </p:grpSpPr>
          <p:sp>
            <p:nvSpPr>
              <p:cNvPr id="62" name="Oval 16"/>
              <p:cNvSpPr/>
              <p:nvPr/>
            </p:nvSpPr>
            <p:spPr>
              <a:xfrm flipH="1">
                <a:off x="4343400" y="2743200"/>
                <a:ext cx="3581280" cy="762480"/>
              </a:xfrm>
              <a:prstGeom prst="ellipse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7"/>
              <p:cNvSpPr/>
              <p:nvPr/>
            </p:nvSpPr>
            <p:spPr>
              <a:xfrm>
                <a:off x="4952880" y="2743200"/>
                <a:ext cx="262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Easte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Line 18"/>
            <p:cNvSpPr/>
            <p:nvPr/>
          </p:nvSpPr>
          <p:spPr>
            <a:xfrm flipV="1">
              <a:off x="4876560" y="3429360"/>
              <a:ext cx="457200" cy="609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19"/>
          <p:cNvSpPr/>
          <p:nvPr/>
        </p:nvSpPr>
        <p:spPr>
          <a:xfrm>
            <a:off x="3581280" y="4419720"/>
            <a:ext cx="2133720" cy="1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What is WangMei wri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at can she do with the Intern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d the lesson and answer the questi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2286000"/>
            <a:ext cx="8305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is writing an e-mail on her new lap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talk with others , d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esearch, read e-books and find 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ay around the city on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Paragraph 3~6 and 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539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How can she talk with others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How can she do the research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How can she read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How can she find her way around the c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292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ow can she talk with others on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ow can she do the research on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190188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use a chat program. It even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ideo. She can see each other as they t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type the right questions into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earch eng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How can she read on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How can she find her way around the cit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80880" y="1981080"/>
            <a:ext cx="8915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download e-books on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use a map program on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t can give her directions to anywhere s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ants to go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28:22Z</dcterms:created>
  <dc:creator> </dc:creator>
  <dc:description> </dc:description>
  <dc:language>en-US</dc:language>
  <cp:lastModifiedBy>Administrator</cp:lastModifiedBy>
  <dcterms:modified xsi:type="dcterms:W3CDTF">2019-01-02T02:28:4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